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9349-B1CF-44E5-8F28-B523357D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EC8-3146-4A3D-B449-25CBCF3E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EAE-55C6-4925-AC6C-7847BDF0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CB3-5429-4A27-908F-53CB5452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AAE-7B48-4B57-82AD-C5DB040A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DB6-9194-4A07-82FD-91DC8F32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5DCD-037D-463D-B2CE-9C8E7E22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619-8F29-4E01-B060-9A0168A1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6C9-62BE-48D7-ACF2-59DD57A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B88-748F-4856-A019-824E54AF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EEA-F0A0-47AE-BA8A-E656366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CD5-8DFE-4572-A4A8-54BCE5B4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070B-8655-4AD5-88C7-140A8A35126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ootle.edu.au/" TargetMode="External"/><Relationship Id="rId2" Type="http://schemas.openxmlformats.org/officeDocument/2006/relationships/hyperlink" Target="mailto:principal@hay.wf.catholic.edu.au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learningfederation.edu.au/default.asp" TargetMode="External"/><Relationship Id="rId2" Type="http://schemas.openxmlformats.org/officeDocument/2006/relationships/hyperlink" Target="http://www.thelearningfederation.edu.au/default.asp?id=1691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cootle.edu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rname: </a:t>
            </a:r>
            <a:r>
              <a:rPr b="0" lang="en-A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incipal@hay.wf.catholic.edu.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sswor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66"/>
                </a:solidFill>
                <a:latin typeface="Arial"/>
              </a:rPr>
              <a:t>stmarys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19280" y="765000"/>
            <a:ext cx="54007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COOTL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92360" y="476280"/>
            <a:ext cx="5975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Scootle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vides access to more than 8000 items of digital curricul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achers can create personal lists of favour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s the Le@rning Federations digital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can access specified content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learningfederation.edu.au/default.asp</a:t>
            </a: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site allows teachers to find material to use with their programs in each KLA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may be doing a lesson on Mass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to The Learning Federation Website. Open Teachers file. Go to Mathematics and find the following activity as a lesson. </a:t>
            </a: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he Le@rning Feder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189000"/>
            <a:ext cx="6840720" cy="1439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1280" y="3800160"/>
            <a:ext cx="453708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ing the Le@rning Federation Catalog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For Teachers,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click on catalo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oose a K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arch for some content you could use in the class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665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reate a learning path you need to first find the activity you are searching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ick on the activity to view it. If it is what you want to keep you then create it into a learning p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lick on “Add this item to my learning pat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the folder to save it into. Eg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am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rite a footnote about it. Perhaps who it is suitabl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549360"/>
            <a:ext cx="4657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reating a Learning Pa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a Learning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to Learning 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to My Learning Pat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lick on the folder you think it might be in. Eg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Look for created learning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1:58:40Z</dcterms:created>
  <dc:creator>donnaw</dc:creator>
  <dc:description/>
  <dc:language>en-US</dc:language>
  <cp:lastModifiedBy>donnaw</cp:lastModifiedBy>
  <dcterms:modified xsi:type="dcterms:W3CDTF">2010-03-31T03:53:26Z</dcterms:modified>
  <cp:revision>8</cp:revision>
  <dc:subject/>
  <dc:title>Slide 1</dc:title>
</cp:coreProperties>
</file>